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826-E143-4F8A-B058-9FD0DDE8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FDD-D79E-4097-B27C-AF5C1502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365-FCD5-4297-AF35-F0D91671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5C8-2E92-426D-93E9-E071F4FC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0B0-0908-4DE5-860F-587FF6C3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398-EE9B-4EBC-AE0D-9CA72596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2E9-7542-473A-B886-474FD9A5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E71-7932-4AF3-9F00-0F40FCB9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9D7-F28B-40ED-B35A-83A5C973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73E-6EF1-4811-A12E-A7953E04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3BB-8EE5-4005-9D60-CBC9E34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C33-61FC-4355-9FC5-203CC382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E9D-C7C1-4C37-9E55-278D59763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sk.com/web?q=dictionary:+stock+exchange&amp;qsrc=8" TargetMode="External"/><Relationship Id="rId2" Type="http://schemas.openxmlformats.org/officeDocument/2006/relationships/hyperlink" Target="http://www.ask.com/web?q=dictionary:+stock+exchange&amp;qsrc=8" TargetMode="External"/><Relationship Id="rId3" Type="http://schemas.openxmlformats.org/officeDocument/2006/relationships/hyperlink" Target="http://www.ask.com/web?q=dictionary:+stock+exchange&amp;qsrc=8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ck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acle 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OR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ose Oracle Co. because it is a Greek myth, (the oracle) and I love Greek my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Co. is a company that sells computer database equipment, and it is very interested in keeping the company green by using solar energy instead of other non-green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Dona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M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onalds is a fast-food chain that serves burgers, chicken nuggets, french fries, and other fast food.  It is a nationwide restaurant that services everyone at a low price, with speedy and friendl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G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 is a store that comes in baby gap, gap kids, and gap outlet.  It has many clothes in different colors and patterns.  The company is nationwide, and is found in most malls/strip m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h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K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ls is a department store, that sells many things, and is quite a large chain store.  It sells clothing to women and men of all shapes and sizes, and has a reasonable price for it.  It can be found in most malls around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dstro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J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dstrom’s is a clothing store found in most large cities across the nation, and has a large selection of fabrics to choose from.  It has special tailors to make sure the customer is completely satisfi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is CO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 is a company that mostly deals out bags, but also sells other accessories.  It is made out of very nice fabric, but costs a lot of money.  You would be able to find a Coach by looking in a mall in a rather large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stock mar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.)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ock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x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.)The business transacted at a stock exchange.(n.)The prices offered for stocks and bonds in general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rising stoc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, what this is saying that a stock market is a place where people can buy and sell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ide note*: stocks are pieces of a company that you can buy or sell to make mone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id the stock market begin operat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7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arly 17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meant by the word “share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qual part of a corporation that is held by a stockholder as well as the contribution of the por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asically a stock, or a part of a company that anyone can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it mean to own “stock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that you own a part of a company, and you get a certificate, and you can sell it, depending on how much it costs at the present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people invest in the stock mar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invest in the stock market because the average annual growth of companies in the stock market is five-hundred to eight percent. Buyers earn money by purchasing stock for long-term investments with tips from a personal financial adviser in this free video on stocks and invest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llowed to trade st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tock owners are allowed to trade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advantages/disadvantages of investing in the stock market as opposed to keeping your money in the b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: you can earn more money, it’s a gamble; you can feel more of a thrill, you can manage your money more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s: if stock goes down, you lose money, and if it crashes (1930s) you can lose all of the money you had in the stock marke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ck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1:22:25Z</dcterms:created>
  <dc:creator>Molly</dc:creator>
  <dc:description/>
  <dc:language>en-US</dc:language>
  <cp:lastModifiedBy>Molly</cp:lastModifiedBy>
  <dcterms:modified xsi:type="dcterms:W3CDTF">2010-02-17T01:03:26Z</dcterms:modified>
  <cp:revision>5</cp:revision>
  <dc:subject/>
  <dc:title>The Stock Market</dc:title>
</cp:coreProperties>
</file>